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AA0-C3A1-4073-99B8-1004E3D9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698-A62D-4508-9F8F-AD8C9D74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CD1-5AD4-4785-BE95-65B097E8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A88-8AF0-490F-A536-984860D7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4E9A-6371-4029-AEF3-62D62E81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C3B0-9724-4DFF-96F4-90FF8711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D91D-FDDA-4DBA-A895-82A3F606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A234-40C0-4E8C-9CF2-85BF5D5B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1869-2116-4E1C-B45E-0EBAFCC8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5259-CE27-4B29-B252-76F6AE59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7564-3EF7-441E-AFB0-A8D6C20E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36C-36CD-4FA4-9B88-C23EA2F8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6395-0E64-4272-A977-1048C785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3D25-65F2-4B7B-B0B7-F64E5294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9794-5576-42DB-A5B2-470302D6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839C-2808-40C0-85DD-F9891BE9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C14B-9230-481C-B54A-4C0F7016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55B8-7702-4604-94E7-48D6BE82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4143-53FF-42ED-A871-1ED0F14F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CA03-5AED-4F72-9BCA-83C56272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2F0A-C539-483B-AA78-55F27FF6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5859-0892-49B0-ABA3-D117EAB4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0F4-69D5-47C9-8AAC-245EA095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E80D-BFD8-40F7-B39E-F336FD35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65B21-97FD-41BF-BA8C-4998BF3A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B0D9E-7E12-482C-AF5D-999443B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468C-109C-4ABD-A628-3E9C6747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49D8-36D8-4836-AF7F-1C531010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05BD-0E23-4D41-A325-BB640A28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680D-F7F1-4D9F-A3DF-3C639969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519EE-D642-4525-BA86-053F98BD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747B6-F775-49C9-B222-EB556A36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8A64-A995-478C-B551-C7033728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C84-13FC-467F-9762-884FC42B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0D19B-0BAA-49F3-8C45-04F23A93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2E1D-5A8D-4402-87F7-6ACCA319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0E21-E841-4F11-B311-3FC3BB21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4441D-855C-4E6C-A4D2-AA7F4832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A43D8-3A5F-48A2-A7EB-61BF8B34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1EBA9-2EB7-4597-A838-B1B7BF03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8450-48AD-4019-B143-A986B2F8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D9727-5A73-468A-BBD5-C9644DE0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BEE8-852D-4D57-A6C6-3E8B3DC5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4EB-FF0D-4669-AD76-DA7FF0FF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9A3-CD32-4612-987C-0B323883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867-71DB-4A92-807D-9010328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5AB-35CB-4055-BECB-6BF13CA9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86E-388A-45DE-8F57-F6ED6C76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32F-23E6-40AA-BBC4-C046255AB25A}" type="slidenum">
              <a:rPr b="1" lang="sk-SK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798E-EC2D-4AA3-A19B-333DAE90404A}" type="slidenum">
              <a:rPr b="1" lang="sk-SK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E79A-8FF7-498B-94A2-A59A715C38BF}" type="slidenum">
              <a:rPr b="1" lang="sk-SK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B9F8-26EC-4C81-97C0-CE084690177C}" type="slidenum">
              <a:rPr b="1" lang="sk-SK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4" descr=""/>
          <p:cNvPicPr/>
          <p:nvPr/>
        </p:nvPicPr>
        <p:blipFill>
          <a:blip r:embed="rId1"/>
          <a:stretch/>
        </p:blipFill>
        <p:spPr>
          <a:xfrm>
            <a:off x="542880" y="2066760"/>
            <a:ext cx="8491680" cy="20116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4" descr=""/>
          <p:cNvPicPr/>
          <p:nvPr/>
        </p:nvPicPr>
        <p:blipFill>
          <a:blip r:embed="rId1"/>
          <a:stretch/>
        </p:blipFill>
        <p:spPr>
          <a:xfrm>
            <a:off x="-469800" y="450720"/>
            <a:ext cx="9699480" cy="557208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468720" y="620640"/>
            <a:ext cx="950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Grafik 2" descr="E:\RC PP 2014-15\prednaska 2014 - 10\2148121_mnichov-oktoberfest.jpg"/>
          <p:cNvPicPr/>
          <p:nvPr/>
        </p:nvPicPr>
        <p:blipFill>
          <a:blip r:embed="rId1"/>
          <a:stretch/>
        </p:blipFill>
        <p:spPr>
          <a:xfrm>
            <a:off x="1585800" y="1881360"/>
            <a:ext cx="5972400" cy="309528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4" descr=""/>
          <p:cNvPicPr/>
          <p:nvPr/>
        </p:nvPicPr>
        <p:blipFill>
          <a:blip r:embed="rId1"/>
          <a:stretch/>
        </p:blipFill>
        <p:spPr>
          <a:xfrm>
            <a:off x="-469800" y="463680"/>
            <a:ext cx="9632880" cy="5559120"/>
          </a:xfrm>
          <a:prstGeom prst="rect">
            <a:avLst/>
          </a:prstGeom>
          <a:ln w="0">
            <a:noFill/>
          </a:ln>
        </p:spPr>
      </p:pic>
      <p:pic>
        <p:nvPicPr>
          <p:cNvPr id="219" name="Grafik 2" descr="E:\RC PP 2014-15\prednaska 2014 - 10\2148124_mnichov-oktoberfest.jpg"/>
          <p:cNvPicPr/>
          <p:nvPr/>
        </p:nvPicPr>
        <p:blipFill>
          <a:blip r:embed="rId2"/>
          <a:stretch/>
        </p:blipFill>
        <p:spPr>
          <a:xfrm>
            <a:off x="1403280" y="2781360"/>
            <a:ext cx="5975280" cy="292104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396720" y="523800"/>
            <a:ext cx="8309160" cy="578484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4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6913800" cy="5419440"/>
          </a:xfrm>
          <a:prstGeom prst="rect">
            <a:avLst/>
          </a:prstGeom>
          <a:ln w="0">
            <a:noFill/>
          </a:ln>
        </p:spPr>
      </p:pic>
      <p:pic>
        <p:nvPicPr>
          <p:cNvPr id="222" name="Grafik 2" descr="E:\RC PP 2014-15\prednaska 2014 - 10\2148122_mnichov-oktoberfest.jpg"/>
          <p:cNvPicPr/>
          <p:nvPr/>
        </p:nvPicPr>
        <p:blipFill>
          <a:blip r:embed="rId2"/>
          <a:stretch/>
        </p:blipFill>
        <p:spPr>
          <a:xfrm>
            <a:off x="1585800" y="1712880"/>
            <a:ext cx="5972400" cy="343224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4" descr=""/>
          <p:cNvPicPr/>
          <p:nvPr/>
        </p:nvPicPr>
        <p:blipFill>
          <a:blip r:embed="rId1"/>
          <a:stretch/>
        </p:blipFill>
        <p:spPr>
          <a:xfrm>
            <a:off x="-469800" y="463680"/>
            <a:ext cx="9504360" cy="5559120"/>
          </a:xfrm>
          <a:prstGeom prst="rect">
            <a:avLst/>
          </a:prstGeom>
          <a:ln w="0">
            <a:noFill/>
          </a:ln>
        </p:spPr>
      </p:pic>
      <p:pic>
        <p:nvPicPr>
          <p:cNvPr id="224" name="Grafik 2" descr="E:\RC PP 2014-15\prednaska 2014 - 10\2148123_mnichov-oktoberfest.jpg"/>
          <p:cNvPicPr/>
          <p:nvPr/>
        </p:nvPicPr>
        <p:blipFill>
          <a:blip r:embed="rId2"/>
          <a:stretch/>
        </p:blipFill>
        <p:spPr>
          <a:xfrm>
            <a:off x="1547640" y="2616120"/>
            <a:ext cx="5392800" cy="330516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4" descr=""/>
          <p:cNvPicPr/>
          <p:nvPr/>
        </p:nvPicPr>
        <p:blipFill>
          <a:blip r:embed="rId1"/>
          <a:stretch/>
        </p:blipFill>
        <p:spPr>
          <a:xfrm>
            <a:off x="828720" y="762120"/>
            <a:ext cx="7566120" cy="526068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7:06:21Z</dcterms:created>
  <dc:creator>Grünvaldský</dc:creator>
  <dc:description/>
  <dc:language>en-US</dc:language>
  <cp:lastModifiedBy>Gruenvaldsky, Vladimir Slowakei MR CEE</cp:lastModifiedBy>
  <dcterms:modified xsi:type="dcterms:W3CDTF">2014-10-06T16:06:49Z</dcterms:modified>
  <cp:revision>58</cp:revision>
  <dc:subject/>
  <dc:title>Vánoce a Nový rok 2008  Christmas and New Year 2008    Weihnachtsfest und      Neues Jahr 200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